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17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0861-98CE-4474-8CDC-A859B83E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B612-65C6-4789-8BA7-D0391A11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4C80-CBEC-4CFB-A58D-2D776B1D5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063D-569C-4E5B-8F77-F0AF8AE1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BF27-8694-4152-9E5A-8484E430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5F38-485E-49A2-A10F-CCF4DA35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7517-772F-4208-9C3C-3FF8C838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112F-6755-48FA-8F10-3FCAECA8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0870-7E73-4FCF-AC70-07C4A4CE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71DC-069C-427E-A33E-EE7B9D9B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29AB-41DB-4C24-B86C-EE8C88B5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2913-5402-45B2-B656-95CB39A8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A529-9EB4-45A3-82E9-42DA1194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6BCD-D2E1-41B6-8DD1-52663953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4F65-5C1C-4DB3-9547-023639F7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0890E-D671-4001-97B6-4B51D4533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91CB-C8BD-48F1-B60B-4B5E9CB3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E94DB-A7F7-410B-B9DC-AEA9B5B9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14788-C7F3-4CB7-8D08-166B80B3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B32F2-AADA-4F6D-952E-A500D2AB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25900-82CA-4A75-9678-BF9D2648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CA01E-3914-4920-BB0C-C683B6D7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9F58-7CAD-4B09-9364-914A4B8F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76108-25BD-41B7-ADF8-753C0D89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45216-C137-4313-A6C8-46246500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89F3F-EB8A-4BDF-A545-82C5CA60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0A1A0-DA5B-4730-80DE-D388D603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50D49-B24F-4350-B499-E0C3BE39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EEB20-997F-4619-83D4-7A45238E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656E2-4F94-4E71-9A97-6AF95EC9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16842-87BA-4E7C-88E7-E50B0338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8B96F-25DE-46BF-8B93-075AB042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DB593-BF46-442D-935D-D0759AF3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840A-CC3B-469E-B6F8-893096DE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749F3-965E-48A7-93FE-7ABCCE54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685B4-4A70-43D5-8580-267882CE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7B297-5041-4EAF-8F8B-1E2E500A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AEEF2-FCFA-4CBF-A259-57EF6A96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56835-AC6B-40F6-A1AE-37D1B63A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4F30C-41B7-445C-AD7B-E2B8250B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50882-A9FD-42AF-83A6-8991BA04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0E073-CB3E-4FA1-9516-74B05D77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036B9-9C79-47B5-A724-91A34131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D1AA6-3A24-41DF-A125-C919BED0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C19C-AB45-4965-8A13-ED59592F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2FAC6-4685-4584-AB48-042F6AFC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76E7D-5700-4378-9269-70B0DE9F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CA2B7-B1D9-4BE3-95D4-59F5A749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6DBC1-F757-4276-A9A5-180893FF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7A936-479D-437F-A0A1-52B9AF56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ABFF5-A815-4DA2-9766-8902A2B5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3D63F-639D-45DE-849A-A5D4E63A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14B05-60CB-4358-88E7-7910279A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06CCD-2AA5-40BC-A1CC-5CA12D1A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83707-FFFC-42E9-B078-026E4FBA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83F1-C999-41D9-B066-6518762B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6D1EA-9328-4665-A9C3-BD3E2839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8AEFC-D676-46CC-B877-B7587FCF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43A59-9F5D-46D5-9B28-ED0EAD21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739C9-F34E-47DD-BE53-C74D55C30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2F45A-A611-4D67-BB7E-B8C8B1CB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5A190-C4BC-4542-8BE2-C18196CA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8DFF9-3BF7-4835-80EF-5F7A8C4A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8FB1E-E181-435B-98C6-F55EA821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F990D-B7EB-41D4-95FB-7D91631E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F2300-E856-4531-B8CE-39EC49B4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0208-A5C5-45BA-B3AE-7F83883E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383CA-7947-48A0-A954-C1801673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99368-FC29-4531-9687-8170954C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776C5-33A5-46B4-A01C-26D40FD5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22EB0-94A9-4172-B339-FFBCF13A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A04B3-CBBE-4379-B23C-41BC979A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5F9AC-186A-4FD2-91F7-258CCB22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B598D-F3BB-44E9-8127-21BF192C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8826A-490B-42D4-AE7B-EEDB6652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CC5BA-39E6-4B42-AEA3-ABD53865D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4B857-4B9C-41FD-B3C5-2437089B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BAFA-E0CB-48A4-AADD-772B8577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17F45-0265-4C28-825D-A158A269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86D6E-A07F-45DA-8DC2-EE2DBA3A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C036E-A228-451D-B67C-D504EBCD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403E4-AF79-433F-8563-98182B2F1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343F6-8178-4555-BC94-7F711B0AA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0B45E-EDA6-49A2-89F0-62F8F6FA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99257-D0CE-4AE1-BF56-107BD4E4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615EC-AFE4-4402-8ADC-DEA4D3AC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4CAA1-ACF6-4483-8104-840F36F5B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A30EE-4D82-4E1A-A2A0-A1895D0A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593E-75D3-416E-BBC6-6D455FC2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37F9F-7CAB-4FAF-A623-AF13D25E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5EB7D-044C-4EFE-A161-5059FBA3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BC5135-3F2D-4BB4-8A84-68BB5723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229D5-979F-46D9-864F-008CA8F8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27A43-F49E-436B-B5BB-58A527B1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05E6F-6CC9-4352-99CD-796F0E79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D3E49-5391-458C-A77A-3AC32DFB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5599-576B-4D94-9444-3FD3E4C6A804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flourish2.png"/>
          <p:cNvPicPr/>
          <p:nvPr/>
        </p:nvPicPr>
        <p:blipFill>
          <a:blip r:embed="rId4"/>
          <a:stretch/>
        </p:blipFill>
        <p:spPr>
          <a:xfrm>
            <a:off x="0" y="2803680"/>
            <a:ext cx="9144000" cy="933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37A9-1EBF-4196-B034-61E3F9ECDDFD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flourish2.png"/>
          <p:cNvPicPr/>
          <p:nvPr/>
        </p:nvPicPr>
        <p:blipFill>
          <a:blip r:embed="rId4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EAF4-C415-42B3-8E88-D70B90D00F8F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window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flourish2.png"/>
          <p:cNvPicPr/>
          <p:nvPr/>
        </p:nvPicPr>
        <p:blipFill>
          <a:blip r:embed="rId4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flourish2.png"/>
          <p:cNvPicPr/>
          <p:nvPr/>
        </p:nvPicPr>
        <p:blipFill>
          <a:blip r:embed="rId5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30FE-3593-40B2-AD60-E73DC3DCCEDD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flourish2.png"/>
          <p:cNvPicPr/>
          <p:nvPr/>
        </p:nvPicPr>
        <p:blipFill>
          <a:blip r:embed="rId4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BC43-FBE6-4C48-9BD3-1921AFC5658A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flourish2.png"/>
          <p:cNvPicPr/>
          <p:nvPr/>
        </p:nvPicPr>
        <p:blipFill>
          <a:blip r:embed="rId4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0F15-B4EB-4C29-8B11-D97D2332F40B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flourish2.png"/>
          <p:cNvPicPr/>
          <p:nvPr/>
        </p:nvPicPr>
        <p:blipFill>
          <a:blip r:embed="rId4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2BBE-3A0F-41F4-8475-472C5E64C39B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window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8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37302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C9FC-C65A-40AB-8A79-ACD404814673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185904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BOB AND SHELLA 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Garamond"/>
              </a:rPr>
              <a:t>By: Hemal Parik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SHIELA SU AMIGA LE DIJO A SU “BOB ESTUVO EN EL HOSPITAL.”  SHIELA CORRIÓ A BOB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71" name="Picture 2" descr="http://tell.fll.purdue.edu/JapanProj/FLClipart/Nouns/building/hospital.gif"/>
          <p:cNvPicPr/>
          <p:nvPr/>
        </p:nvPicPr>
        <p:blipFill>
          <a:blip r:embed="rId1"/>
          <a:stretch/>
        </p:blipFill>
        <p:spPr>
          <a:xfrm>
            <a:off x="380880" y="3505320"/>
            <a:ext cx="4152960" cy="21891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http://pathforhealthyliving.wigihosting.com/blog/wp-content/uploads/2010/06/GirlRunning.jpg"/>
          <p:cNvPicPr/>
          <p:nvPr/>
        </p:nvPicPr>
        <p:blipFill>
          <a:blip r:embed="rId2"/>
          <a:stretch/>
        </p:blipFill>
        <p:spPr>
          <a:xfrm>
            <a:off x="5029200" y="3478320"/>
            <a:ext cx="37148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ELLA LE DIJO QUE “TE AMO MUCHA!” BOB ESTUVO MUY CONTENTO! ELLOS VIVIERON UNA LA VIDA DE CONTENTO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74" name="Picture 2" descr="http://www.engagements.ca/images/girlproposes.jpg"/>
          <p:cNvPicPr/>
          <p:nvPr/>
        </p:nvPicPr>
        <p:blipFill>
          <a:blip r:embed="rId1"/>
          <a:stretch/>
        </p:blipFill>
        <p:spPr>
          <a:xfrm>
            <a:off x="609480" y="3505320"/>
            <a:ext cx="3333960" cy="29048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http://t1.gstatic.com/images?q=tbn:ANd9GcTWjpO_yreDDYrcDmYCSnFmjyWh9u9tj0b14m8vmsB1iK0tyoGbvw"/>
          <p:cNvPicPr/>
          <p:nvPr/>
        </p:nvPicPr>
        <p:blipFill>
          <a:blip r:embed="rId2"/>
          <a:stretch/>
        </p:blipFill>
        <p:spPr>
          <a:xfrm>
            <a:off x="4267080" y="3506760"/>
            <a:ext cx="36576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AY FUE UN CHICO CON NOMBRE BOB. EL TUVO GRANDE CORAZÓN PERO NO TUVO EL CEREBRO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47" name="Picture 2" descr="http://www.studentsoftheworld.info/sites/games/img/24715_3-hearts.png"/>
          <p:cNvPicPr/>
          <p:nvPr/>
        </p:nvPicPr>
        <p:blipFill>
          <a:blip r:embed="rId1"/>
          <a:stretch/>
        </p:blipFill>
        <p:spPr>
          <a:xfrm>
            <a:off x="380880" y="3352680"/>
            <a:ext cx="3648240" cy="32292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http://www.examiner.com/images/blog/wysiwyg/image/brain(26).jpg"/>
          <p:cNvPicPr/>
          <p:nvPr/>
        </p:nvPicPr>
        <p:blipFill>
          <a:blip r:embed="rId2"/>
          <a:stretch/>
        </p:blipFill>
        <p:spPr>
          <a:xfrm>
            <a:off x="4267080" y="3352680"/>
            <a:ext cx="4419720" cy="3229200"/>
          </a:xfrm>
          <a:prstGeom prst="rect">
            <a:avLst/>
          </a:prstGeom>
          <a:ln w="0">
            <a:noFill/>
          </a:ln>
        </p:spPr>
      </p:pic>
      <p:sp>
        <p:nvSpPr>
          <p:cNvPr id="349" name="Straight Connector 5"/>
          <p:cNvSpPr/>
          <p:nvPr/>
        </p:nvSpPr>
        <p:spPr>
          <a:xfrm>
            <a:off x="4267080" y="6581880"/>
            <a:ext cx="914400" cy="914400"/>
          </a:xfrm>
          <a:prstGeom prst="line">
            <a:avLst/>
          </a:prstGeom>
          <a:ln w="9360">
            <a:solidFill>
              <a:srgbClr val="9e8e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Straight Connector 7"/>
          <p:cNvSpPr/>
          <p:nvPr/>
        </p:nvSpPr>
        <p:spPr>
          <a:xfrm flipV="1">
            <a:off x="4343400" y="3352320"/>
            <a:ext cx="4343400" cy="3124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Straight Connector 9"/>
          <p:cNvSpPr/>
          <p:nvPr/>
        </p:nvSpPr>
        <p:spPr>
          <a:xfrm>
            <a:off x="4343400" y="3352680"/>
            <a:ext cx="4343400" cy="322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AY FUE UNA CHICA. ELLA SU NOMBRE FUE SHELLA. ELLOS ESTUVIERON AMIGOS CUANDO LOS NIÑOS PEQUEÑO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3" name="Picture 4" descr="http://rookery.s3.amazonaws.com/742500/742961_a228_625x1000.jpg"/>
          <p:cNvPicPr/>
          <p:nvPr/>
        </p:nvPicPr>
        <p:blipFill>
          <a:blip r:embed="rId1"/>
          <a:stretch/>
        </p:blipFill>
        <p:spPr>
          <a:xfrm>
            <a:off x="914400" y="3324240"/>
            <a:ext cx="2705040" cy="30193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http://farm1.static.flickr.com/98/252075523_1c097d4b88.jpg"/>
          <p:cNvPicPr/>
          <p:nvPr/>
        </p:nvPicPr>
        <p:blipFill>
          <a:blip r:embed="rId2"/>
          <a:stretch/>
        </p:blipFill>
        <p:spPr>
          <a:xfrm>
            <a:off x="4800600" y="3386160"/>
            <a:ext cx="293364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ERO BOB NO SE GUSTA SHIELA PORQUE ELLA FUE NO BONITA. ÉL  LE DIJO QUE TIENE UN DOLOR DE CABEZA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6" name="Picture 2" descr="http://tnation.t-nation.com/forum_images/d/8/d841c-Ugly_girl.gif"/>
          <p:cNvPicPr/>
          <p:nvPr/>
        </p:nvPicPr>
        <p:blipFill>
          <a:blip r:embed="rId1"/>
          <a:stretch/>
        </p:blipFill>
        <p:spPr>
          <a:xfrm>
            <a:off x="838080" y="3276720"/>
            <a:ext cx="2743200" cy="32684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http://2.bp.blogspot.com/_8vF1TTyV5ww/Sz6RMrrXzHI/AAAAAAAAB6w/QjcjQIKZMwI/s1600/office_headache.gif"/>
          <p:cNvPicPr/>
          <p:nvPr/>
        </p:nvPicPr>
        <p:blipFill>
          <a:blip r:embed="rId2"/>
          <a:stretch/>
        </p:blipFill>
        <p:spPr>
          <a:xfrm>
            <a:off x="4800600" y="3336840"/>
            <a:ext cx="312408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UANDO ELLOS TUVIERON MAYORS, SHEILA NO SE GUSTA BOB. PERO, BOB EMPEZÓ GUSTAR SHIELA MUCHO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9" name="Picture 4" descr="http://www.tomrichmond.com/images/teenmagfinal_big.jpg"/>
          <p:cNvPicPr/>
          <p:nvPr/>
        </p:nvPicPr>
        <p:blipFill>
          <a:blip r:embed="rId1"/>
          <a:stretch/>
        </p:blipFill>
        <p:spPr>
          <a:xfrm>
            <a:off x="762120" y="3352680"/>
            <a:ext cx="3527280" cy="27432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http://www.visualphotos.com/photo/2x4285886/boy_looking_at_girl_texting_is0266kh6.jpg"/>
          <p:cNvPicPr/>
          <p:nvPr/>
        </p:nvPicPr>
        <p:blipFill>
          <a:blip r:embed="rId2"/>
          <a:stretch/>
        </p:blipFill>
        <p:spPr>
          <a:xfrm>
            <a:off x="4782960" y="3368520"/>
            <a:ext cx="392292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LLA NUNCA HABLÓ CON ÉL . CUANDO, ÉL QUERÍA SER SU AMIGA PERO ÉL FRACASADO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2" name="Picture 2" descr="http://kevinspear.com/wp-content/uploads/2010/05/Spear_3628.jpg"/>
          <p:cNvPicPr/>
          <p:nvPr/>
        </p:nvPicPr>
        <p:blipFill>
          <a:blip r:embed="rId1"/>
          <a:stretch/>
        </p:blipFill>
        <p:spPr>
          <a:xfrm>
            <a:off x="2743200" y="3427560"/>
            <a:ext cx="38196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1760" y="1371600"/>
            <a:ext cx="746748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BOB SE SENTÍO MUY MAL.  ÉL LE DIJO QUE “TE AMO SHIELA.”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4" name="Picture 2" descr="http://www.talkwedding.org/pictures/proposal1.jpg"/>
          <p:cNvPicPr/>
          <p:nvPr/>
        </p:nvPicPr>
        <p:blipFill>
          <a:blip r:embed="rId1"/>
          <a:stretch/>
        </p:blipFill>
        <p:spPr>
          <a:xfrm>
            <a:off x="838080" y="3581280"/>
            <a:ext cx="3048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040" y="159984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ELLA LE DIJO QUE “NO TE AMO.”  QUE LE ROMPIÓ ÉL CORAZÓN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6" name="Picture 2" descr="http://forladiesbyladies.com/wp-content/uploads/2009/07/broken-heart.jpg"/>
          <p:cNvPicPr/>
          <p:nvPr/>
        </p:nvPicPr>
        <p:blipFill>
          <a:blip r:embed="rId1"/>
          <a:stretch/>
        </p:blipFill>
        <p:spPr>
          <a:xfrm>
            <a:off x="2743200" y="3505320"/>
            <a:ext cx="380988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391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QUE LE ROMPIÓ ÉL CORAZÓN.  DESPUES DE UN DIA, ÉL  SE FUE POR ÉL CORRER Y ÉL HINCHADO EL TOBILLO Y LA HERIDO LA CABEZA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8" name="Picture 2" descr="http://www.clipartguide.com/_named_clipart_images/0060-0807-1214-4036_Sprinter_running_a_race_clipart_image.jpg"/>
          <p:cNvPicPr/>
          <p:nvPr/>
        </p:nvPicPr>
        <p:blipFill>
          <a:blip r:embed="rId1"/>
          <a:stretch/>
        </p:blipFill>
        <p:spPr>
          <a:xfrm>
            <a:off x="685800" y="3429000"/>
            <a:ext cx="2631960" cy="274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http://aullmd.com/wp-content/uploads/2010/09/sprained-ankle.jpg"/>
          <p:cNvPicPr/>
          <p:nvPr/>
        </p:nvPicPr>
        <p:blipFill>
          <a:blip r:embed="rId2"/>
          <a:stretch/>
        </p:blipFill>
        <p:spPr>
          <a:xfrm>
            <a:off x="3886200" y="3429000"/>
            <a:ext cx="28098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3:58:45Z</dcterms:created>
  <dc:creator>hemal</dc:creator>
  <dc:description/>
  <dc:language>en-US</dc:language>
  <cp:lastModifiedBy>hemal</cp:lastModifiedBy>
  <dcterms:modified xsi:type="dcterms:W3CDTF">2011-03-08T00:33:40Z</dcterms:modified>
  <cp:revision>4</cp:revision>
  <dc:subject/>
  <dc:title>Bob And Shella</dc:title>
</cp:coreProperties>
</file>